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FA7B-3CE3-49CB-B1DA-6007D4273D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A147-3BF2-4E91-8E43-F3BC507E7A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many different learning platforms/VLEs out there. Hampshire went through a long process and decided to use Studywiz. This was re-branded as Hampshire Wizkid in January 200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EAD5-B545-4D14-B2B5-0EB392D5B9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oftware is called Studywiz, Hampshire have rebranded it as Hampshire Wizkid. Hampshire went through a process of finding the VLE that best met their requir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838A-C045-4A12-8D01-92D133F1D6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users are all taken from SIMS, so schools need to ensure that all users that need an account are in SI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54F2-D9C0-495E-9F73-9BDA04D6C2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have split the benefits into 3 different slides to try and capture the differences between the people that will use the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932D-0EDC-4816-AB5A-C120155B80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may wish to add ‘communicating with school/staff’ but this will depend on if your school has turned this on or n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724D-FF7E-402D-8126-6AF3E46CE7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ally show a live demo at this point. If this is not possible there are a few screenshots following that you can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06EF-4900-4695-9BDA-125A6508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9922-2B22-41A5-91C7-ED689E98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D26B-2E67-4091-8607-7305900E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5B9F-52F4-4B45-B5AC-CF2FDDED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3F73-6D2B-48F5-BB2C-1B891970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DDAE-D52D-44D3-85F5-D3C2A0F4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455A-A7B8-49D7-9A14-AE0F56B0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1632-E45D-4C66-B67D-533951A2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AD97-D7EF-4C07-84C6-ECD0E71A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1A80-7F66-4795-96D8-477FB154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4EB4-E812-4EE3-940C-96EFDEE8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230C-A220-4089-8806-1DD74F61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0896-297C-4D87-95B7-1826B6A3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6F40-7A66-413C-B3CB-B922BE64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0A0A-7FC7-4AEC-9DA9-41AD2851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B1E1-A9D8-4C91-9154-B1C01946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39D4-AA12-412E-B283-C4FD12B2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E5E1-4A8F-4BB1-A913-245E9AB1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09AA-0933-4D43-82E2-31A5A74B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9DC2-E653-4526-9B51-2600DA24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979-3B27-49F3-85C5-27B6C8F1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5DA4-B5E4-492E-894D-A7A3F9A6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3B08-1F6D-40F3-9FDF-DED4A0C1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F706-0952-4E1E-9973-036F2322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15F2-BFE5-499F-BA7D-FD9BD091866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6B0D-52D4-468B-985E-C005B2FBB34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naddison.net/" TargetMode="External"/><Relationship Id="rId2" Type="http://schemas.openxmlformats.org/officeDocument/2006/relationships/hyperlink" Target="http://www.twitter.com/" TargetMode="External"/><Relationship Id="rId3" Type="http://schemas.openxmlformats.org/officeDocument/2006/relationships/hyperlink" Target="http://bit.ly/ianblogpres" TargetMode="External"/><Relationship Id="rId4" Type="http://schemas.openxmlformats.org/officeDocument/2006/relationships/hyperlink" Target="http://bit.ly/iantwitter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docs.google.com/" TargetMode="External"/><Relationship Id="rId2" Type="http://schemas.openxmlformats.org/officeDocument/2006/relationships/hyperlink" Target="http://www.wallwisher.com/" TargetMode="External"/><Relationship Id="rId3" Type="http://schemas.openxmlformats.org/officeDocument/2006/relationships/hyperlink" Target="http://www.primarypad.com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vernote.com/" TargetMode="External"/><Relationship Id="rId2" Type="http://schemas.openxmlformats.org/officeDocument/2006/relationships/hyperlink" Target="http://www.delicious.com/" TargetMode="External"/><Relationship Id="rId3" Type="http://schemas.openxmlformats.org/officeDocument/2006/relationships/hyperlink" Target="http://www.dropbox.com/" TargetMode="External"/><Relationship Id="rId4" Type="http://schemas.openxmlformats.org/officeDocument/2006/relationships/hyperlink" Target="http://www.delicious.com/ianaddison" TargetMode="External"/><Relationship Id="rId5" Type="http://schemas.openxmlformats.org/officeDocument/2006/relationships/hyperlink" Target="http://www.delicious.com/parkfield" TargetMode="External"/><Relationship Id="rId6" Type="http://schemas.openxmlformats.org/officeDocument/2006/relationships/hyperlink" Target="http://www.delicious.com/hampshirebookmarks" TargetMode="Externa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nimoto.com/" TargetMode="External"/><Relationship Id="rId2" Type="http://schemas.openxmlformats.org/officeDocument/2006/relationships/hyperlink" Target="http://www.photopeach.com/" TargetMode="External"/><Relationship Id="rId3" Type="http://schemas.openxmlformats.org/officeDocument/2006/relationships/hyperlink" Target="http://www.wordle.net/" TargetMode="External"/><Relationship Id="rId4" Type="http://schemas.openxmlformats.org/officeDocument/2006/relationships/hyperlink" Target="http://www.voicethread.com/" TargetMode="External"/><Relationship Id="rId5" Type="http://schemas.openxmlformats.org/officeDocument/2006/relationships/hyperlink" Target="http://www.myebook.com/" TargetMode="External"/><Relationship Id="rId6" Type="http://schemas.openxmlformats.org/officeDocument/2006/relationships/hyperlink" Target="http://www.myebook.com/mr_hill_3-4H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aps.google.co.uk/" TargetMode="External"/><Relationship Id="rId2" Type="http://schemas.openxmlformats.org/officeDocument/2006/relationships/hyperlink" Target="http://dougbelshaw.com/blog/2009/12/21/movemeon-book-now-available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voki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deas to Inspir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ser Media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deas to Inspi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PD –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Blogg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Twi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gging Presentation -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http://bit.ly/ianblogpr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itter Guide -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http://bit.ly/iantwit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deas to Inspi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aboration –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Google Doc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Wallw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Primary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deas to Inspi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 –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Everno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Delicio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Drop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www.delicious.com/ianadd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www.delicious.com/park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www.delicious.com/hampshirebookmark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deas to Inspi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tivity –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Animot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Photopea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Word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Voicethre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MyE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http://www.myebook.com/mr_hill_3-4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deas to Inspi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c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StreetVie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Move M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 That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Homework (sort of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ww.ideastoinspire.co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apps4class.wikispaces.com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y blog: www.ianaddison.n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Powerpoint: http://bit.ly/ianp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ct m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l@ianaddison.n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ww.twitter.com/ianaddi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LE/Learning Platforms – Wizk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28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0066"/>
                </a:solidFill>
                <a:latin typeface="Arial"/>
              </a:rPr>
              <a:t>What 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’s a Learning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 Plat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llection of online tools for learning, teaching and management of lear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contains tools that enable users to communicate and collaborate eff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originally were set up to supplement distance learning, but are now becoming a way of enhancing learning in schools, particularly exploiting home/school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rcRect l="37215" t="22884" r="37982" b="63107"/>
          <a:stretch/>
        </p:blipFill>
        <p:spPr>
          <a:xfrm>
            <a:off x="3924360" y="189000"/>
            <a:ext cx="3024000" cy="1366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6804000" y="4046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28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0066"/>
                </a:solidFill>
                <a:latin typeface="Arial"/>
              </a:rPr>
              <a:t>What 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ny different types of VLE and Wizkid is the chosen one for Hampshi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 Teachers and ASTs were on the panel to decide on the chosen learning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zkid is Hampshire’s name for the Studywiz V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lout began in June 2008 and as of January 2010, over 400 schools are using Wizk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37215" t="22884" r="37982" b="63107"/>
          <a:stretch/>
        </p:blipFill>
        <p:spPr>
          <a:xfrm>
            <a:off x="3924360" y="189000"/>
            <a:ext cx="3024000" cy="13669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804000" y="4046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28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0066"/>
                </a:solidFill>
                <a:latin typeface="Arial"/>
              </a:rPr>
              <a:t>What 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zkid can be accessed from any computer or device connected to the internet. (Even on a Wii or iph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 will have access to a wide-range of educational content, links and g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ild and adult will have their own unique username and a passw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the possibility of working across schools with different children – transition projects? Cross-school work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rcRect l="37215" t="22884" r="37982" b="63107"/>
          <a:stretch/>
        </p:blipFill>
        <p:spPr>
          <a:xfrm>
            <a:off x="3924360" y="189000"/>
            <a:ext cx="3024000" cy="1366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6804000" y="4046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Benefits of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8560" y="2491920"/>
            <a:ext cx="676908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teac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content and plans between colleagues or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use of multimedia withi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ilored learning to suit the pupils’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across schools and Hampsh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ing to pupils and other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rcRect l="37215" t="22884" r="37982" b="63107"/>
          <a:stretch/>
        </p:blipFill>
        <p:spPr>
          <a:xfrm>
            <a:off x="4284720" y="765000"/>
            <a:ext cx="30240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Benefits of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8560" y="2491920"/>
            <a:ext cx="676908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pup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and secure onlin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 and safe place to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asy way to access activities based on current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learn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st homewor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37215" t="22884" r="37982" b="63107"/>
          <a:stretch/>
        </p:blipFill>
        <p:spPr>
          <a:xfrm>
            <a:off x="4284720" y="765000"/>
            <a:ext cx="30240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Benefits of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8920" y="2491920"/>
            <a:ext cx="720072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par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can easily share thei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od way to ensure your child is accessing educational and relevant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u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arents will have their own lo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ccess to your child’s attainment and attendance reports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rcRect l="37215" t="22884" r="37982" b="63107"/>
          <a:stretch/>
        </p:blipFill>
        <p:spPr>
          <a:xfrm>
            <a:off x="4284720" y="765000"/>
            <a:ext cx="30240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Now lets have a look 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voki.c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Maps.google.co.uk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.l.munday</cp:lastModifiedBy>
  <dcterms:modified xsi:type="dcterms:W3CDTF">2011-02-22T12:17:0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